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-36360" y="12600"/>
            <a:ext cx="72072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42000"/>
            <a:ext cx="3505320" cy="22716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50000">
                <a:srgbClr val="cccccc"/>
              </a:gs>
              <a:gs pos="100000">
                <a:srgbClr val="5e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58920" y="452520"/>
            <a:ext cx="878508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16080" y="12600"/>
            <a:ext cx="144756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360" y="2064960"/>
            <a:ext cx="6840720" cy="7059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52"/>
          <p:cNvSpPr/>
          <p:nvPr/>
        </p:nvSpPr>
        <p:spPr>
          <a:xfrm>
            <a:off x="2273400" y="4330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20840"/>
            <a:ext cx="806292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ri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e defini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ntential 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, sa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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 ste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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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’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’ 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p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ntential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f there exist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equence of derivation steps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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ternatively, we say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9600" y="5506920"/>
            <a:ext cx="9356760" cy="94716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wo definitions are equivalent, but note that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re many derivations corresponding to each pars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280" y="49212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  |  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00200" y="30481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00200" y="380988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600200" y="4495680"/>
            <a:ext cx="30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7524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1752480" y="4273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3505320" y="3429000"/>
            <a:ext cx="304560" cy="1981080"/>
            <a:chOff x="3505320" y="3429000"/>
            <a:chExt cx="304560" cy="1981080"/>
          </a:xfrm>
        </p:grpSpPr>
        <p:sp>
          <p:nvSpPr>
            <p:cNvPr id="212" name="Rectangle 10"/>
            <p:cNvSpPr/>
            <p:nvPr/>
          </p:nvSpPr>
          <p:spPr>
            <a:xfrm>
              <a:off x="3505320" y="342900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3505320" y="4191120"/>
              <a:ext cx="30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3505320" y="4876920"/>
              <a:ext cx="30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3657600" y="3892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3657600" y="46544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5"/>
          <p:cNvSpPr/>
          <p:nvPr/>
        </p:nvSpPr>
        <p:spPr>
          <a:xfrm>
            <a:off x="3048120" y="28954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048120" y="33526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2590920" y="33526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8"/>
          <p:cNvSpPr/>
          <p:nvPr/>
        </p:nvSpPr>
        <p:spPr>
          <a:xfrm flipV="1">
            <a:off x="2825640" y="326988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3200400" y="32828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3359160" y="328284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6477120" y="35053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6477120" y="42670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6477120" y="49528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6629400" y="39686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6629400" y="4730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5105520" y="28195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5105520" y="342900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4648320" y="32767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4648320" y="39625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4800600" y="3740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V="1">
            <a:off x="4883040" y="3193560"/>
            <a:ext cx="2160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5257800" y="32828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3"/>
          <p:cNvSpPr/>
          <p:nvPr/>
        </p:nvSpPr>
        <p:spPr>
          <a:xfrm flipH="1">
            <a:off x="5632560" y="3511440"/>
            <a:ext cx="164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791320" y="30481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5486400" y="3733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5486400" y="44197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>
            <a:off x="5638680" y="4197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>
            <a:off x="6102360" y="3359160"/>
            <a:ext cx="4446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5416560" y="3130560"/>
            <a:ext cx="3682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6019920" y="35812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1"/>
          <p:cNvSpPr/>
          <p:nvPr/>
        </p:nvSpPr>
        <p:spPr>
          <a:xfrm>
            <a:off x="5950080" y="3511440"/>
            <a:ext cx="1396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484200"/>
            <a:ext cx="7713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569960"/>
            <a:ext cx="77724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ntence can have more than one pars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ammar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igu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is a sentence with more than one parse t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 | 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 |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5"/>
          <p:cNvGrpSpPr/>
          <p:nvPr/>
        </p:nvGrpSpPr>
        <p:grpSpPr>
          <a:xfrm>
            <a:off x="4914720" y="4299120"/>
            <a:ext cx="2756160" cy="2472480"/>
            <a:chOff x="4914720" y="4299120"/>
            <a:chExt cx="2756160" cy="2472480"/>
          </a:xfrm>
        </p:grpSpPr>
        <p:sp>
          <p:nvSpPr>
            <p:cNvPr id="247" name="Text Box 5"/>
            <p:cNvSpPr/>
            <p:nvPr/>
          </p:nvSpPr>
          <p:spPr>
            <a:xfrm>
              <a:off x="4965840" y="567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5662800" y="5060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413760" y="567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8"/>
            <p:cNvSpPr/>
            <p:nvPr/>
          </p:nvSpPr>
          <p:spPr>
            <a:xfrm>
              <a:off x="5802480" y="54435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5116680" y="6053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>
              <a:off x="6564240" y="6053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 flipH="1">
              <a:off x="5268960" y="536724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5954760" y="544356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424920" y="4299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7175880" y="490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64240" y="4681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7326360" y="5291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>
              <a:off x="6716880" y="468144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H="1">
              <a:off x="5943600" y="460548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4914720" y="6311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6362640" y="6311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7124400" y="554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2"/>
            <p:cNvSpPr/>
            <p:nvPr/>
          </p:nvSpPr>
          <p:spPr>
            <a:xfrm>
              <a:off x="5633640" y="5665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2"/>
            <p:cNvSpPr/>
            <p:nvPr/>
          </p:nvSpPr>
          <p:spPr>
            <a:xfrm>
              <a:off x="6420960" y="4903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44"/>
          <p:cNvGrpSpPr/>
          <p:nvPr/>
        </p:nvGrpSpPr>
        <p:grpSpPr>
          <a:xfrm>
            <a:off x="1052280" y="4375080"/>
            <a:ext cx="2808720" cy="2320200"/>
            <a:chOff x="1052280" y="4375080"/>
            <a:chExt cx="2808720" cy="2320200"/>
          </a:xfrm>
        </p:grpSpPr>
        <p:sp>
          <p:nvSpPr>
            <p:cNvPr id="267" name="Text Box 24"/>
            <p:cNvSpPr/>
            <p:nvPr/>
          </p:nvSpPr>
          <p:spPr>
            <a:xfrm>
              <a:off x="1891080" y="437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5"/>
            <p:cNvSpPr/>
            <p:nvPr/>
          </p:nvSpPr>
          <p:spPr>
            <a:xfrm>
              <a:off x="1906920" y="5518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6"/>
            <p:cNvSpPr/>
            <p:nvPr/>
          </p:nvSpPr>
          <p:spPr>
            <a:xfrm>
              <a:off x="2603880" y="490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7"/>
            <p:cNvSpPr/>
            <p:nvPr/>
          </p:nvSpPr>
          <p:spPr>
            <a:xfrm>
              <a:off x="1068480" y="490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8"/>
            <p:cNvSpPr/>
            <p:nvPr/>
          </p:nvSpPr>
          <p:spPr>
            <a:xfrm>
              <a:off x="3354480" y="5518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9"/>
            <p:cNvSpPr/>
            <p:nvPr/>
          </p:nvSpPr>
          <p:spPr>
            <a:xfrm>
              <a:off x="2743200" y="52912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>
              <a:off x="1219320" y="53672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1"/>
            <p:cNvSpPr/>
            <p:nvPr/>
          </p:nvSpPr>
          <p:spPr>
            <a:xfrm>
              <a:off x="2057400" y="59007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2"/>
            <p:cNvSpPr/>
            <p:nvPr/>
          </p:nvSpPr>
          <p:spPr>
            <a:xfrm>
              <a:off x="3505320" y="59007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33"/>
            <p:cNvSpPr/>
            <p:nvPr/>
          </p:nvSpPr>
          <p:spPr>
            <a:xfrm flipV="1">
              <a:off x="1447920" y="4722840"/>
              <a:ext cx="45720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>
              <a:off x="2209680" y="4681440"/>
              <a:ext cx="4572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 flipH="1">
              <a:off x="2209680" y="521496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2895480" y="5291280"/>
              <a:ext cx="457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1052280" y="5667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8"/>
            <p:cNvSpPr/>
            <p:nvPr/>
          </p:nvSpPr>
          <p:spPr>
            <a:xfrm>
              <a:off x="1866600" y="6159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9"/>
            <p:cNvSpPr/>
            <p:nvPr/>
          </p:nvSpPr>
          <p:spPr>
            <a:xfrm>
              <a:off x="3314520" y="6235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40"/>
            <p:cNvSpPr/>
            <p:nvPr/>
          </p:nvSpPr>
          <p:spPr>
            <a:xfrm>
              <a:off x="1829880" y="4903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1"/>
            <p:cNvSpPr/>
            <p:nvPr/>
          </p:nvSpPr>
          <p:spPr>
            <a:xfrm>
              <a:off x="2585520" y="5513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>
              <a:off x="2057400" y="47577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4640" y="40464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e then if b then d else 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 int x; y = 0; 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b.c = d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 -&gt; s | s.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-&gt; E + T -&gt; E + T + T -&gt; T + T + T -&gt; id + T + T -&gt; id + T * id + T -&gt; id + id * id + T -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 + id * id +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5920" y="404640"/>
            <a:ext cx="699444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biguity is a feature of the grammar rather than th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ain ambiguous grammars may have equivalent unambiguous 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731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ramma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mars can be transformed without affecting the languag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ransformations are discussed nex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ing Ambigu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ing Left Recursion (i.e. productions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 Fac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2560" y="475920"/>
            <a:ext cx="835344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iminating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an ambiguous grammar can be rewritten to eliminate ambigu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, the grammar of Example 1 can be written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 |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nguage generated by this grammar is the same as that generated by the previous grammar. Both genera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|</a:t>
            </a:r>
            <a:r>
              <a:rPr b="1" lang="en-US" sz="3000" spc="-1" strike="noStrike" baseline="-2000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is grammar is not ambigu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98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advantage of this grammar is that it represents the precedence between operators. In the parsing tree, products appear nested within ad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1"/>
          <p:cNvGrpSpPr/>
          <p:nvPr/>
        </p:nvGrpSpPr>
        <p:grpSpPr>
          <a:xfrm>
            <a:off x="3474720" y="4230720"/>
            <a:ext cx="2864160" cy="2467800"/>
            <a:chOff x="3474720" y="4230720"/>
            <a:chExt cx="2864160" cy="2467800"/>
          </a:xfrm>
        </p:grpSpPr>
        <p:sp>
          <p:nvSpPr>
            <p:cNvPr id="297" name="Text Box 4"/>
            <p:cNvSpPr/>
            <p:nvPr/>
          </p:nvSpPr>
          <p:spPr>
            <a:xfrm>
              <a:off x="4421520" y="423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4470480" y="5373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5133960" y="4764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3608640" y="4764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9"/>
            <p:cNvSpPr/>
            <p:nvPr/>
          </p:nvSpPr>
          <p:spPr>
            <a:xfrm>
              <a:off x="5273640" y="51465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0"/>
            <p:cNvSpPr/>
            <p:nvPr/>
          </p:nvSpPr>
          <p:spPr>
            <a:xfrm>
              <a:off x="3800520" y="5222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1"/>
            <p:cNvSpPr/>
            <p:nvPr/>
          </p:nvSpPr>
          <p:spPr>
            <a:xfrm>
              <a:off x="4654440" y="5756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 flipV="1">
              <a:off x="3978360" y="4578480"/>
              <a:ext cx="45720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4740120" y="453708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5"/>
            <p:cNvSpPr/>
            <p:nvPr/>
          </p:nvSpPr>
          <p:spPr>
            <a:xfrm flipH="1">
              <a:off x="4740120" y="507060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>
              <a:off x="5425920" y="514656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792400" y="5324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20"/>
            <p:cNvSpPr/>
            <p:nvPr/>
          </p:nvSpPr>
          <p:spPr>
            <a:xfrm>
              <a:off x="4360680" y="4759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116320" y="5369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4587840" y="4613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5"/>
            <p:cNvSpPr/>
            <p:nvPr/>
          </p:nvSpPr>
          <p:spPr>
            <a:xfrm>
              <a:off x="4329000" y="6010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6"/>
            <p:cNvSpPr/>
            <p:nvPr/>
          </p:nvSpPr>
          <p:spPr>
            <a:xfrm>
              <a:off x="3616200" y="5602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3800520" y="5985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30"/>
            <p:cNvSpPr/>
            <p:nvPr/>
          </p:nvSpPr>
          <p:spPr>
            <a:xfrm>
              <a:off x="3474720" y="623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of ambiguity in a programming language is the dangling </a:t>
            </a: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el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476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re are two nested ifs and only one else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9"/>
          <p:cNvGrpSpPr/>
          <p:nvPr/>
        </p:nvGrpSpPr>
        <p:grpSpPr>
          <a:xfrm>
            <a:off x="914400" y="2852640"/>
            <a:ext cx="4786560" cy="2015640"/>
            <a:chOff x="914400" y="2852640"/>
            <a:chExt cx="4786560" cy="2015640"/>
          </a:xfrm>
        </p:grpSpPr>
        <p:sp>
          <p:nvSpPr>
            <p:cNvPr id="321" name="Text Box 5"/>
            <p:cNvSpPr/>
            <p:nvPr/>
          </p:nvSpPr>
          <p:spPr>
            <a:xfrm>
              <a:off x="1904400" y="2852640"/>
              <a:ext cx="264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914400" y="3390840"/>
              <a:ext cx="406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1752120" y="3390840"/>
              <a:ext cx="273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2362320" y="3390840"/>
              <a:ext cx="6505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04600" y="3389040"/>
              <a:ext cx="264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4267080" y="3390840"/>
              <a:ext cx="6505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e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5409360" y="3389040"/>
              <a:ext cx="264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5410080" y="4027320"/>
              <a:ext cx="290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2977200" y="4027320"/>
              <a:ext cx="13302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the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53"/>
            <p:cNvSpPr/>
            <p:nvPr/>
          </p:nvSpPr>
          <p:spPr>
            <a:xfrm flipH="1">
              <a:off x="1294920" y="3081240"/>
              <a:ext cx="6858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54"/>
            <p:cNvSpPr/>
            <p:nvPr/>
          </p:nvSpPr>
          <p:spPr>
            <a:xfrm flipH="1">
              <a:off x="1904760" y="3081240"/>
              <a:ext cx="7596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55"/>
            <p:cNvSpPr/>
            <p:nvPr/>
          </p:nvSpPr>
          <p:spPr>
            <a:xfrm>
              <a:off x="1981080" y="308124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56"/>
            <p:cNvSpPr/>
            <p:nvPr/>
          </p:nvSpPr>
          <p:spPr>
            <a:xfrm>
              <a:off x="1981080" y="3081240"/>
              <a:ext cx="1676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57"/>
            <p:cNvSpPr/>
            <p:nvPr/>
          </p:nvSpPr>
          <p:spPr>
            <a:xfrm>
              <a:off x="1981080" y="3081240"/>
              <a:ext cx="2438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58"/>
            <p:cNvSpPr/>
            <p:nvPr/>
          </p:nvSpPr>
          <p:spPr>
            <a:xfrm>
              <a:off x="1981080" y="3081240"/>
              <a:ext cx="3505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59"/>
            <p:cNvSpPr/>
            <p:nvPr/>
          </p:nvSpPr>
          <p:spPr>
            <a:xfrm flipH="1">
              <a:off x="3124080" y="361440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0"/>
            <p:cNvSpPr/>
            <p:nvPr/>
          </p:nvSpPr>
          <p:spPr>
            <a:xfrm flipH="1">
              <a:off x="3428640" y="36144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1"/>
            <p:cNvSpPr/>
            <p:nvPr/>
          </p:nvSpPr>
          <p:spPr>
            <a:xfrm>
              <a:off x="3581280" y="36144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2"/>
            <p:cNvSpPr/>
            <p:nvPr/>
          </p:nvSpPr>
          <p:spPr>
            <a:xfrm>
              <a:off x="3581280" y="361440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3"/>
            <p:cNvSpPr/>
            <p:nvPr/>
          </p:nvSpPr>
          <p:spPr>
            <a:xfrm>
              <a:off x="5562720" y="3690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64"/>
            <p:cNvSpPr/>
            <p:nvPr/>
          </p:nvSpPr>
          <p:spPr>
            <a:xfrm>
              <a:off x="4114800" y="4300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962520" y="4541760"/>
              <a:ext cx="290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78"/>
          <p:cNvGrpSpPr/>
          <p:nvPr/>
        </p:nvGrpSpPr>
        <p:grpSpPr>
          <a:xfrm>
            <a:off x="914760" y="4653000"/>
            <a:ext cx="6462720" cy="2079360"/>
            <a:chOff x="914760" y="4653000"/>
            <a:chExt cx="6462720" cy="2079360"/>
          </a:xfrm>
        </p:grpSpPr>
        <p:sp>
          <p:nvSpPr>
            <p:cNvPr id="344" name="Text Box 16"/>
            <p:cNvSpPr/>
            <p:nvPr/>
          </p:nvSpPr>
          <p:spPr>
            <a:xfrm>
              <a:off x="1980720" y="4653000"/>
              <a:ext cx="2772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914760" y="5265720"/>
              <a:ext cx="43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1752480" y="5264280"/>
              <a:ext cx="287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2363760" y="5265720"/>
              <a:ext cx="7113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3571560" y="5262840"/>
              <a:ext cx="2772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21"/>
            <p:cNvSpPr/>
            <p:nvPr/>
          </p:nvSpPr>
          <p:spPr>
            <a:xfrm>
              <a:off x="2581560" y="5802480"/>
              <a:ext cx="43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2"/>
            <p:cNvSpPr/>
            <p:nvPr/>
          </p:nvSpPr>
          <p:spPr>
            <a:xfrm>
              <a:off x="3419640" y="5800680"/>
              <a:ext cx="287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4030560" y="5802480"/>
              <a:ext cx="7113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24"/>
            <p:cNvSpPr/>
            <p:nvPr/>
          </p:nvSpPr>
          <p:spPr>
            <a:xfrm>
              <a:off x="5171760" y="5799240"/>
              <a:ext cx="2772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5"/>
            <p:cNvSpPr/>
            <p:nvPr/>
          </p:nvSpPr>
          <p:spPr>
            <a:xfrm>
              <a:off x="5935680" y="5802480"/>
              <a:ext cx="7113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7076880" y="5799240"/>
              <a:ext cx="2772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7086600" y="6405840"/>
              <a:ext cx="290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52"/>
            <p:cNvSpPr/>
            <p:nvPr/>
          </p:nvSpPr>
          <p:spPr>
            <a:xfrm>
              <a:off x="5181480" y="6405840"/>
              <a:ext cx="290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1294920" y="4957920"/>
              <a:ext cx="6858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6"/>
            <p:cNvSpPr/>
            <p:nvPr/>
          </p:nvSpPr>
          <p:spPr>
            <a:xfrm flipH="1">
              <a:off x="1904760" y="4957920"/>
              <a:ext cx="759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7"/>
            <p:cNvSpPr/>
            <p:nvPr/>
          </p:nvSpPr>
          <p:spPr>
            <a:xfrm>
              <a:off x="1981080" y="4957920"/>
              <a:ext cx="6098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8"/>
            <p:cNvSpPr/>
            <p:nvPr/>
          </p:nvSpPr>
          <p:spPr>
            <a:xfrm>
              <a:off x="1981080" y="4957920"/>
              <a:ext cx="1676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9"/>
            <p:cNvSpPr/>
            <p:nvPr/>
          </p:nvSpPr>
          <p:spPr>
            <a:xfrm flipH="1">
              <a:off x="2971440" y="5491440"/>
              <a:ext cx="6858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70"/>
            <p:cNvSpPr/>
            <p:nvPr/>
          </p:nvSpPr>
          <p:spPr>
            <a:xfrm flipH="1">
              <a:off x="3581280" y="549144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71"/>
            <p:cNvSpPr/>
            <p:nvPr/>
          </p:nvSpPr>
          <p:spPr>
            <a:xfrm>
              <a:off x="3657600" y="549144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72"/>
            <p:cNvSpPr/>
            <p:nvPr/>
          </p:nvSpPr>
          <p:spPr>
            <a:xfrm>
              <a:off x="3657600" y="5491440"/>
              <a:ext cx="1676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73"/>
            <p:cNvSpPr/>
            <p:nvPr/>
          </p:nvSpPr>
          <p:spPr>
            <a:xfrm>
              <a:off x="3657600" y="5491440"/>
              <a:ext cx="2438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74"/>
            <p:cNvSpPr/>
            <p:nvPr/>
          </p:nvSpPr>
          <p:spPr>
            <a:xfrm>
              <a:off x="3657600" y="5491440"/>
              <a:ext cx="3505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75"/>
            <p:cNvSpPr/>
            <p:nvPr/>
          </p:nvSpPr>
          <p:spPr>
            <a:xfrm>
              <a:off x="5334120" y="61772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76"/>
            <p:cNvSpPr/>
            <p:nvPr/>
          </p:nvSpPr>
          <p:spPr>
            <a:xfrm>
              <a:off x="7238880" y="617724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94520" cy="7059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tract the grammatical structure of a sentence, wher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tence =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s = tok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5013360"/>
            <a:ext cx="6769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urther informa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ho, Sethi, Ull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Compilers: Principles, Techniques, and Tools” (a.k.a, the “Dragon Book”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Purple dragon book b.jpg"/>
          <p:cNvPicPr/>
          <p:nvPr/>
        </p:nvPicPr>
        <p:blipFill>
          <a:blip r:embed="rId1"/>
          <a:stretch/>
        </p:blipFill>
        <p:spPr>
          <a:xfrm>
            <a:off x="7740720" y="4960800"/>
            <a:ext cx="1079280" cy="16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5960" y="475920"/>
            <a:ext cx="861876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3674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languages (including C++ and Java), each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ssumed to belong to the nearest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is not already matched by an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ssociation is expressed in the following (unambiguous) gramm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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  Unma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che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matche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ched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ma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biguity is a property of the gramm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undecidable whether a context free grammar is ambiguo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oof is done by reduction to Post’s correspondence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hough there is no general algorithm, it is possible to isolate certain constructs in productions which lead to ambiguous gramm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a grammar containing the produ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 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uld be ambiguous, because the substr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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wo par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128680" y="283536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600200" y="36846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057400" y="36846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828800" y="32274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4122720" y="27702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2590560" y="32274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657600" y="3200400"/>
            <a:ext cx="297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4122720" y="376092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419360" y="322740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724280" y="3760920"/>
            <a:ext cx="281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2057040" y="421812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1599840" y="421812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2590560" y="368460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657240" y="383688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23920" y="429408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128840" y="4294080"/>
            <a:ext cx="275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1"/>
          <p:cNvSpPr/>
          <p:nvPr/>
        </p:nvSpPr>
        <p:spPr>
          <a:xfrm flipH="1">
            <a:off x="2057040" y="30481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2286000" y="30481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3"/>
          <p:cNvSpPr/>
          <p:nvPr/>
        </p:nvSpPr>
        <p:spPr>
          <a:xfrm flipH="1">
            <a:off x="182844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19810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22096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7"/>
          <p:cNvSpPr/>
          <p:nvPr/>
        </p:nvSpPr>
        <p:spPr>
          <a:xfrm>
            <a:off x="27432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17524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9"/>
          <p:cNvSpPr/>
          <p:nvPr/>
        </p:nvSpPr>
        <p:spPr>
          <a:xfrm>
            <a:off x="38098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0"/>
          <p:cNvSpPr/>
          <p:nvPr/>
        </p:nvSpPr>
        <p:spPr>
          <a:xfrm>
            <a:off x="426708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31"/>
          <p:cNvSpPr/>
          <p:nvPr/>
        </p:nvSpPr>
        <p:spPr>
          <a:xfrm>
            <a:off x="487692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32"/>
          <p:cNvSpPr/>
          <p:nvPr/>
        </p:nvSpPr>
        <p:spPr>
          <a:xfrm flipH="1">
            <a:off x="3886200" y="29718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4267080" y="297180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 flipH="1">
            <a:off x="4266720" y="3581280"/>
            <a:ext cx="3812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4648320" y="3581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685800" y="4648320"/>
            <a:ext cx="77724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mbiguity disappears if we use the produ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 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the p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 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ng Ambiguity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ambiguous prod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F language is inherently ambiguous if it has no unambiguous CF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such a language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=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i=j or j=m} which can be generated by the gramm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 | D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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42508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on of Left Recu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639800"/>
            <a:ext cx="8134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6040" indent="-4460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ammar is left recursive if it has a nontermin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a deriv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ome string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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-down parsing methods cannot handle left-recursive grammars, so a transformation to eliminate left recursion i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ediate left recursion (productions of the for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easily eliminat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productions 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…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n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gins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productions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…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4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on of Left Recursion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vious transformation, however, does not eliminate left recursion involving two or more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consider the gramm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is left-recursive be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t is not immediately left recur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on of Left Recursion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72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. Left recursion elimin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 nonterminals in some ord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 = 1 to n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= 1 to i - 1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 each production of th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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… 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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…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current production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the immediate left recursion among the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prod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limination of Left Recursion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that iter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ly changes productions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left-hand side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right-hand 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induction proof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ly true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rue for a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when the outer loop is executed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inner loop will remove all productio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, after the elimination of self recursion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n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productions will be &g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end of the algorithm, all derivations of the for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ha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refore left recursion will not be pres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Left Fact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factoring helps transform a grammar for predictive par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we have the two prod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seeing the input token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cannot immediately tell which production to choose to exp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if we ha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input begins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do not kno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ithout looking further) which production to use to exp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Left Factoring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we may defer the decision by expanding A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after seeing the input derived fro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e may expand A’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t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-factored, the original productions bec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280" y="492120"/>
            <a:ext cx="7713720" cy="7059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ular Parsing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p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on-Context-Free Language Constr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non-context-free languages a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of the form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*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similar to these that are context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of the form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*}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nds for w revers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anguage is generated by the gramma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anguage is generated by the gramma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on-Context-Free Language Construct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'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generated by the gramma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generated by the gramma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language is not definable by any regular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FG vs DF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698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‘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"/>
          <p:cNvSpPr/>
          <p:nvPr/>
        </p:nvSpPr>
        <p:spPr>
          <a:xfrm>
            <a:off x="3552840" y="3567240"/>
            <a:ext cx="603360" cy="601560"/>
          </a:xfrm>
          <a:prstGeom prst="ellipse">
            <a:avLst/>
          </a:prstGeom>
          <a:solidFill>
            <a:srgbClr val="cc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5697360" y="3568680"/>
            <a:ext cx="603360" cy="601560"/>
          </a:xfrm>
          <a:prstGeom prst="ellipse">
            <a:avLst/>
          </a:prstGeom>
          <a:solidFill>
            <a:srgbClr val="cccc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rc 9"/>
          <p:cNvSpPr/>
          <p:nvPr/>
        </p:nvSpPr>
        <p:spPr>
          <a:xfrm flipV="1">
            <a:off x="3552840" y="3094200"/>
            <a:ext cx="574560" cy="522000"/>
          </a:xfrm>
          <a:custGeom>
            <a:avLst/>
            <a:gdLst>
              <a:gd name="textAreaLeft" fmla="*/ 0 w 574560"/>
              <a:gd name="textAreaRight" fmla="*/ 574920 w 574560"/>
              <a:gd name="textAreaTop" fmla="*/ 360 h 522000"/>
              <a:gd name="textAreaBottom" fmla="*/ 522720 h 522000"/>
            </a:gdLst>
            <a:ahLst/>
            <a:rect l="textAreaLeft" t="textAreaTop" r="textAreaRight" b="textAreaBottom"/>
            <a:pathLst>
              <a:path fill="none" w="43200" h="39196">
                <a:moveTo>
                  <a:pt x="35785" y="1306"/>
                </a:moveTo>
                <a:cubicBezTo>
                  <a:pt x="40495" y="5408"/>
                  <a:pt x="43200" y="11349"/>
                  <a:pt x="43200" y="17596"/>
                </a:cubicBezTo>
                <a:cubicBezTo>
                  <a:pt x="43200" y="29525"/>
                  <a:pt x="33529" y="39196"/>
                  <a:pt x="21600" y="39196"/>
                </a:cubicBezTo>
                <a:cubicBezTo>
                  <a:pt x="9670" y="39196"/>
                  <a:pt x="0" y="29525"/>
                  <a:pt x="0" y="17596"/>
                </a:cubicBezTo>
                <a:cubicBezTo>
                  <a:pt x="-1" y="10608"/>
                  <a:pt x="3380" y="4052"/>
                  <a:pt x="9072" y="-1"/>
                </a:cubicBezTo>
              </a:path>
              <a:path stroke="0" w="43200" h="39196">
                <a:moveTo>
                  <a:pt x="35785" y="1306"/>
                </a:moveTo>
                <a:cubicBezTo>
                  <a:pt x="40495" y="5408"/>
                  <a:pt x="43200" y="11349"/>
                  <a:pt x="43200" y="17596"/>
                </a:cubicBezTo>
                <a:cubicBezTo>
                  <a:pt x="43200" y="29525"/>
                  <a:pt x="33529" y="39196"/>
                  <a:pt x="21600" y="39196"/>
                </a:cubicBezTo>
                <a:cubicBezTo>
                  <a:pt x="9670" y="39196"/>
                  <a:pt x="0" y="29525"/>
                  <a:pt x="0" y="17596"/>
                </a:cubicBezTo>
                <a:cubicBezTo>
                  <a:pt x="-1" y="10608"/>
                  <a:pt x="3380" y="4052"/>
                  <a:pt x="9072" y="-1"/>
                </a:cubicBezTo>
                <a:lnTo>
                  <a:pt x="21600" y="17596"/>
                </a:lnTo>
                <a:lnTo>
                  <a:pt x="35785" y="1306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rc 11"/>
          <p:cNvSpPr/>
          <p:nvPr/>
        </p:nvSpPr>
        <p:spPr>
          <a:xfrm>
            <a:off x="5697360" y="4143240"/>
            <a:ext cx="574920" cy="534960"/>
          </a:xfrm>
          <a:custGeom>
            <a:avLst/>
            <a:gdLst>
              <a:gd name="textAreaLeft" fmla="*/ 0 w 574920"/>
              <a:gd name="textAreaRight" fmla="*/ 575280 w 574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fill="none" w="43200" h="40192">
                <a:moveTo>
                  <a:pt x="34448" y="1229"/>
                </a:moveTo>
                <a:cubicBezTo>
                  <a:pt x="39953" y="5302"/>
                  <a:pt x="43200" y="11744"/>
                  <a:pt x="43200" y="18592"/>
                </a:cubicBezTo>
                <a:cubicBezTo>
                  <a:pt x="43200" y="30521"/>
                  <a:pt x="33529" y="40192"/>
                  <a:pt x="21600" y="40192"/>
                </a:cubicBezTo>
                <a:cubicBezTo>
                  <a:pt x="9670" y="40192"/>
                  <a:pt x="0" y="30521"/>
                  <a:pt x="0" y="18592"/>
                </a:cubicBezTo>
                <a:cubicBezTo>
                  <a:pt x="-1" y="10955"/>
                  <a:pt x="4032" y="3886"/>
                  <a:pt x="10604" y="-1"/>
                </a:cubicBezTo>
              </a:path>
              <a:path stroke="0" w="43200" h="40192">
                <a:moveTo>
                  <a:pt x="34448" y="1229"/>
                </a:moveTo>
                <a:cubicBezTo>
                  <a:pt x="39953" y="5302"/>
                  <a:pt x="43200" y="11744"/>
                  <a:pt x="43200" y="18592"/>
                </a:cubicBezTo>
                <a:cubicBezTo>
                  <a:pt x="43200" y="30521"/>
                  <a:pt x="33529" y="40192"/>
                  <a:pt x="21600" y="40192"/>
                </a:cubicBezTo>
                <a:cubicBezTo>
                  <a:pt x="9670" y="40192"/>
                  <a:pt x="0" y="30521"/>
                  <a:pt x="0" y="18592"/>
                </a:cubicBezTo>
                <a:cubicBezTo>
                  <a:pt x="-1" y="10955"/>
                  <a:pt x="4032" y="3886"/>
                  <a:pt x="10604" y="-1"/>
                </a:cubicBezTo>
                <a:lnTo>
                  <a:pt x="21600" y="18592"/>
                </a:lnTo>
                <a:lnTo>
                  <a:pt x="34448" y="1229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5769000" y="479268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624120" y="2631960"/>
            <a:ext cx="4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AutoShape 20"/>
          <p:cNvCxnSpPr>
            <a:stCxn id="426" idx="6"/>
            <a:endCxn id="427" idx="2"/>
          </p:cNvCxnSpPr>
          <p:nvPr/>
        </p:nvCxnSpPr>
        <p:spPr>
          <a:xfrm>
            <a:off x="4155840" y="3868200"/>
            <a:ext cx="154188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33" name="Line 23"/>
          <p:cNvSpPr/>
          <p:nvPr/>
        </p:nvSpPr>
        <p:spPr>
          <a:xfrm>
            <a:off x="2400480" y="3855960"/>
            <a:ext cx="1152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80640" rIns="806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2184480" y="3490920"/>
            <a:ext cx="100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4616280" y="3424320"/>
            <a:ext cx="4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on-Context-Free Language Construct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could construct a DFS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ing L'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have a finite number of states, s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sequence of stat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er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ing rea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ly h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s, two of the states in the sequence have to be equal. Say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leads to an accepting (final) state. Therefore, the same 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will also lead to an accepting state fro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refo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uld accep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means that the language accep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identical to L’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A contradi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4280" y="492120"/>
            <a:ext cx="792972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rsing problem is:  Given string of toke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ind a parse tree whose frontie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(Equivalently, find a derivation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a gramm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ads a list of tokens and finds a parse tree if they form a sentence (or reports an error otherwi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classes of algorithms for par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492120"/>
            <a:ext cx="821520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s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ser genera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program that reads a grammar and produces a pars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est known parser generator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produces bottom-up par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arser generators - including yacc - do not work for every CFG;  they accept a restricted class of CFG’s that can be parsed efficiently using the method employed by that parser gene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4640" y="492120"/>
            <a:ext cx="8145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-down (predictive)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130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from parse tree containing ju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ild tree down toward input.  Expand left-most non-termin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4640" y="492120"/>
            <a:ext cx="8145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-down pars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690200"/>
            <a:ext cx="7924680" cy="490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input =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entential form (csf)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csf =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, choose p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f becomes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4280" y="49212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-down pars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1734840"/>
            <a:ext cx="7772400" cy="17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mma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  |  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;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se tree            Sentential form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952880" y="36576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5219640" y="3657600"/>
            <a:ext cx="244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952880" y="4114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5148360" y="4114800"/>
            <a:ext cx="251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27"/>
          <p:cNvGrpSpPr/>
          <p:nvPr/>
        </p:nvGrpSpPr>
        <p:grpSpPr>
          <a:xfrm>
            <a:off x="1447920" y="3657600"/>
            <a:ext cx="761760" cy="2362320"/>
            <a:chOff x="1447920" y="3657600"/>
            <a:chExt cx="761760" cy="2362320"/>
          </a:xfrm>
        </p:grpSpPr>
        <p:sp>
          <p:nvSpPr>
            <p:cNvPr id="453" name="Rectangle 4"/>
            <p:cNvSpPr/>
            <p:nvPr/>
          </p:nvSpPr>
          <p:spPr>
            <a:xfrm>
              <a:off x="1752480" y="36576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1752480" y="4114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9"/>
            <p:cNvSpPr/>
            <p:nvPr/>
          </p:nvSpPr>
          <p:spPr>
            <a:xfrm>
              <a:off x="1447920" y="44956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0"/>
            <p:cNvSpPr/>
            <p:nvPr/>
          </p:nvSpPr>
          <p:spPr>
            <a:xfrm>
              <a:off x="1981080" y="44956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1"/>
            <p:cNvSpPr/>
            <p:nvPr/>
          </p:nvSpPr>
          <p:spPr>
            <a:xfrm flipV="1">
              <a:off x="1682640" y="4336560"/>
              <a:ext cx="1396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2"/>
            <p:cNvSpPr/>
            <p:nvPr/>
          </p:nvSpPr>
          <p:spPr>
            <a:xfrm flipH="1" flipV="1">
              <a:off x="1898280" y="4336560"/>
              <a:ext cx="165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>
              <a:off x="1752480" y="449568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4"/>
            <p:cNvSpPr/>
            <p:nvPr/>
          </p:nvSpPr>
          <p:spPr>
            <a:xfrm flipV="1">
              <a:off x="1828800" y="43430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1752480" y="48769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1447920" y="5257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8"/>
            <p:cNvSpPr/>
            <p:nvPr/>
          </p:nvSpPr>
          <p:spPr>
            <a:xfrm>
              <a:off x="1981080" y="5257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9"/>
            <p:cNvSpPr/>
            <p:nvPr/>
          </p:nvSpPr>
          <p:spPr>
            <a:xfrm flipV="1">
              <a:off x="1682640" y="5098680"/>
              <a:ext cx="1396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0"/>
            <p:cNvSpPr/>
            <p:nvPr/>
          </p:nvSpPr>
          <p:spPr>
            <a:xfrm flipH="1" flipV="1">
              <a:off x="1898280" y="5098680"/>
              <a:ext cx="165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1752480" y="5257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22"/>
            <p:cNvSpPr/>
            <p:nvPr/>
          </p:nvSpPr>
          <p:spPr>
            <a:xfrm flipV="1">
              <a:off x="1828800" y="50986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23"/>
            <p:cNvSpPr/>
            <p:nvPr/>
          </p:nvSpPr>
          <p:spPr>
            <a:xfrm>
              <a:off x="1447920" y="5791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24"/>
            <p:cNvSpPr/>
            <p:nvPr/>
          </p:nvSpPr>
          <p:spPr>
            <a:xfrm>
              <a:off x="1523880" y="55688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25"/>
          <p:cNvSpPr/>
          <p:nvPr/>
        </p:nvSpPr>
        <p:spPr>
          <a:xfrm>
            <a:off x="4952880" y="48769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6"/>
          <p:cNvSpPr/>
          <p:nvPr/>
        </p:nvSpPr>
        <p:spPr>
          <a:xfrm>
            <a:off x="5219640" y="4876920"/>
            <a:ext cx="252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476280"/>
            <a:ext cx="8137440" cy="13762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-down parsing exampl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se tree            Sentential form      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4932360" y="3213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6380280" y="3213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32"/>
          <p:cNvGrpSpPr/>
          <p:nvPr/>
        </p:nvGrpSpPr>
        <p:grpSpPr>
          <a:xfrm>
            <a:off x="1752480" y="3112920"/>
            <a:ext cx="838440" cy="3124440"/>
            <a:chOff x="1752480" y="3112920"/>
            <a:chExt cx="838440" cy="3124440"/>
          </a:xfrm>
        </p:grpSpPr>
        <p:sp>
          <p:nvSpPr>
            <p:cNvPr id="477" name="Rectangle 4"/>
            <p:cNvSpPr/>
            <p:nvPr/>
          </p:nvSpPr>
          <p:spPr>
            <a:xfrm>
              <a:off x="2057400" y="31129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"/>
            <p:cNvSpPr/>
            <p:nvPr/>
          </p:nvSpPr>
          <p:spPr>
            <a:xfrm>
              <a:off x="1752480" y="349416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6"/>
            <p:cNvSpPr/>
            <p:nvPr/>
          </p:nvSpPr>
          <p:spPr>
            <a:xfrm>
              <a:off x="2286000" y="349416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7"/>
            <p:cNvSpPr/>
            <p:nvPr/>
          </p:nvSpPr>
          <p:spPr>
            <a:xfrm flipV="1">
              <a:off x="1987560" y="3335400"/>
              <a:ext cx="13968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 flipH="1" flipV="1">
              <a:off x="2203560" y="3335400"/>
              <a:ext cx="16488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9"/>
            <p:cNvSpPr/>
            <p:nvPr/>
          </p:nvSpPr>
          <p:spPr>
            <a:xfrm>
              <a:off x="2057400" y="349416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 flipV="1">
              <a:off x="2133720" y="3335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1"/>
            <p:cNvSpPr/>
            <p:nvPr/>
          </p:nvSpPr>
          <p:spPr>
            <a:xfrm>
              <a:off x="1752480" y="4027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828800" y="38052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3"/>
            <p:cNvSpPr/>
            <p:nvPr/>
          </p:nvSpPr>
          <p:spPr>
            <a:xfrm>
              <a:off x="2286000" y="4027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4"/>
            <p:cNvSpPr/>
            <p:nvPr/>
          </p:nvSpPr>
          <p:spPr>
            <a:xfrm>
              <a:off x="2362320" y="37288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>
              <a:off x="2133720" y="45608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8"/>
            <p:cNvSpPr/>
            <p:nvPr/>
          </p:nvSpPr>
          <p:spPr>
            <a:xfrm>
              <a:off x="1828800" y="49417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9"/>
            <p:cNvSpPr/>
            <p:nvPr/>
          </p:nvSpPr>
          <p:spPr>
            <a:xfrm>
              <a:off x="2362320" y="49417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0"/>
            <p:cNvSpPr/>
            <p:nvPr/>
          </p:nvSpPr>
          <p:spPr>
            <a:xfrm flipV="1">
              <a:off x="2063880" y="4782600"/>
              <a:ext cx="1396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1"/>
            <p:cNvSpPr/>
            <p:nvPr/>
          </p:nvSpPr>
          <p:spPr>
            <a:xfrm flipH="1" flipV="1">
              <a:off x="2279160" y="4782600"/>
              <a:ext cx="165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22"/>
            <p:cNvSpPr/>
            <p:nvPr/>
          </p:nvSpPr>
          <p:spPr>
            <a:xfrm>
              <a:off x="2133720" y="49417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3"/>
            <p:cNvSpPr/>
            <p:nvPr/>
          </p:nvSpPr>
          <p:spPr>
            <a:xfrm flipV="1">
              <a:off x="2209680" y="478260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24"/>
            <p:cNvSpPr/>
            <p:nvPr/>
          </p:nvSpPr>
          <p:spPr>
            <a:xfrm>
              <a:off x="1828800" y="54752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5"/>
            <p:cNvSpPr/>
            <p:nvPr/>
          </p:nvSpPr>
          <p:spPr>
            <a:xfrm>
              <a:off x="1905120" y="52531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26"/>
            <p:cNvSpPr/>
            <p:nvPr/>
          </p:nvSpPr>
          <p:spPr>
            <a:xfrm>
              <a:off x="2362320" y="54752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7"/>
            <p:cNvSpPr/>
            <p:nvPr/>
          </p:nvSpPr>
          <p:spPr>
            <a:xfrm>
              <a:off x="2438280" y="5176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28"/>
            <p:cNvSpPr/>
            <p:nvPr/>
          </p:nvSpPr>
          <p:spPr>
            <a:xfrm>
              <a:off x="2362320" y="6008760"/>
              <a:ext cx="15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9"/>
            <p:cNvSpPr/>
            <p:nvPr/>
          </p:nvSpPr>
          <p:spPr>
            <a:xfrm>
              <a:off x="2438280" y="57103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Rectangle 30"/>
          <p:cNvSpPr/>
          <p:nvPr/>
        </p:nvSpPr>
        <p:spPr>
          <a:xfrm>
            <a:off x="5008680" y="44323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6380280" y="4356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178840" cy="6490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tical structure of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971800" y="1905120"/>
            <a:ext cx="181620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-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66680" y="2590920"/>
            <a:ext cx="166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48120" y="2590920"/>
            <a:ext cx="158724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181480" y="2590920"/>
            <a:ext cx="1447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mt-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143000" y="3505320"/>
            <a:ext cx="166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257800" y="3276720"/>
            <a:ext cx="137160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029200" y="3886200"/>
            <a:ext cx="166356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952880" y="4572000"/>
            <a:ext cx="1663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895480" y="4572000"/>
            <a:ext cx="1663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6934320" y="4572000"/>
            <a:ext cx="166356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895480" y="5181480"/>
            <a:ext cx="166392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934320" y="5181480"/>
            <a:ext cx="166356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95480" y="5715000"/>
            <a:ext cx="166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4952880" y="5181480"/>
            <a:ext cx="1663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6553080" y="5867280"/>
            <a:ext cx="2121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lo, world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2362320" y="220968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8098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4419720" y="2209680"/>
            <a:ext cx="1066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586728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586728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586728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 flipH="1">
            <a:off x="3809880" y="41911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6400800" y="41911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7772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7"/>
          <p:cNvSpPr/>
          <p:nvPr/>
        </p:nvSpPr>
        <p:spPr>
          <a:xfrm>
            <a:off x="777240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9"/>
          <p:cNvSpPr/>
          <p:nvPr/>
        </p:nvSpPr>
        <p:spPr>
          <a:xfrm>
            <a:off x="3733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0"/>
          <p:cNvSpPr/>
          <p:nvPr/>
        </p:nvSpPr>
        <p:spPr>
          <a:xfrm>
            <a:off x="3733920" y="54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90512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3786120" y="2928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3517920" y="3357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74640" y="492120"/>
            <a:ext cx="785808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L(1)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t form of top-down par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nly first symbol of remaining input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o choose next production.  That is, employ a function M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 in “choose production” step of algorith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is is possible, grammar is called LL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4640" y="492120"/>
            <a:ext cx="7858080" cy="7059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(1)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  |  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inpu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so next symbol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production to use?  Can’t te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t LL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420840"/>
            <a:ext cx="753768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L(1)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 Exp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’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“end-of-input” symbol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28"/>
          <p:cNvSpPr/>
          <p:nvPr/>
        </p:nvSpPr>
        <p:spPr>
          <a:xfrm>
            <a:off x="914400" y="4618080"/>
            <a:ext cx="7318440" cy="1191240"/>
          </a:xfrm>
          <a:prstGeom prst="rect">
            <a:avLst/>
          </a:prstGeom>
          <a:solidFill>
            <a:srgbClr val="fafcd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mar is LL(1):  Exp and Term have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production;  Exp’ has two productions but only one is applicable at any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nrecursive 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 a stack explicitly, rather than implicitly via recursive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problem during predictive parsing: determining the production to be applied for a non-termi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Nonrecursive predictive par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recursive predictive par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oint to the first symbol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S onto the st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top of the stack symbol and a the symbol pointed to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terminal or $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stack and adv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ror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/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nonterm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 Y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rom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to the stack with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sh nothing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 Y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the produ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 Y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ror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= 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L(1)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eft recur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If this production is chosen, parse makes no progr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mmon prefi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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fix by “left factoring”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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LL(1) grammar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mbigu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e definition requires that production to choose be unique (“choose” function M very hard to calculate otherwi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L(1)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326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:  Grammar G = (N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, S) is LL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f  whenever there are two left-most deriv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t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follows that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most-derivation: where the leftmost non-terminal is always expanded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ther words, giv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 str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A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 V* 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, the first terminal symbol to be derived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at most one production that can be applied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ield a derivation of any terminal string beginning wit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492120"/>
            <a:ext cx="820728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hecking LL(1)-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ny sequence of grammar symbol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efine set FIRST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sets can often be calculated by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RST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26920" y="1695600"/>
            <a:ext cx="7561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 Ex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“end-of-input”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826920" y="3933720"/>
            <a:ext cx="7632720" cy="1800360"/>
          </a:xfrm>
          <a:prstGeom prst="rect">
            <a:avLst/>
          </a:prstGeom>
          <a:solidFill>
            <a:srgbClr val="fafcd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mmar is LL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408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text-fre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18920"/>
            <a:ext cx="7913520" cy="33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mmatical structure defined by context-free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und-statemen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ent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und-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laration-list statement-li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25480" y="4857840"/>
            <a:ext cx="7389720" cy="825480"/>
          </a:xfrm>
          <a:prstGeom prst="rect">
            <a:avLst/>
          </a:prstGeom>
          <a:solidFill>
            <a:srgbClr val="fcfeb9"/>
          </a:solidFill>
          <a:ln w="9360">
            <a:solidFill>
              <a:srgbClr val="f9f9f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(Context-free). Grammar with only 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n-ter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mbol in left hand side of pro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71800" y="5857920"/>
          <a:ext cx="4357440" cy="741240"/>
        </p:xfrm>
        <a:graphic>
          <a:graphicData uri="http://schemas.openxmlformats.org/drawingml/2006/table">
            <a:tbl>
              <a:tblPr/>
              <a:tblGrid>
                <a:gridCol w="1531800"/>
                <a:gridCol w="2825640"/>
              </a:tblGrid>
              <a:tr h="3715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rminal (to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RST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755640" y="184464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  | 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|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752480" y="3809880"/>
            <a:ext cx="472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684360" y="4941720"/>
            <a:ext cx="7848360" cy="1191240"/>
          </a:xfrm>
          <a:prstGeom prst="rect">
            <a:avLst/>
          </a:prstGeom>
          <a:solidFill>
            <a:srgbClr val="fafcd0"/>
          </a:solidFill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E ; L) = 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= FIRS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(E ; L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(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 not LL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puting FIRST Sets (no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productio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6756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ompute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all grammar symbol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do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… 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no more elements are added to any FIRST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puting FIRST Sets (with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productio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596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ompute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for all grammar symbol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do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… 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1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en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i == k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FIRST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no more elements are added to any FIRST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IRST Sets of Strings of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is the union of FIRST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nd all FIRST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, 2, …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contain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for k = 1, 2, …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IRST Sets do not Suff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28280" y="1600200"/>
            <a:ext cx="838044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the pro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T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be applied when the next input token is 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be applied whenever the next terminal is either x or 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OLLOW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ny nontermin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efine the set FOLLOW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omputing the FOLLOW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. Compute FOLLOW(X) for all nonterminals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(S) = {$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(B) = Follow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IRST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{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 or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(B) = FOLLOW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LLOW(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all FOLLOW sets remain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Another Definition of LL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9898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:  Grammar G is LL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for every 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 with productions 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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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(A)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(A)) = {} for 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-down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623520" y="1793880"/>
            <a:ext cx="352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tokens: 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548320" y="14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967640" y="2362320"/>
            <a:ext cx="126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6"/>
          <p:cNvSpPr/>
          <p:nvPr/>
        </p:nvSpPr>
        <p:spPr>
          <a:xfrm flipH="1">
            <a:off x="5257800" y="1828800"/>
            <a:ext cx="3808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5638680" y="182880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475320" y="1447920"/>
            <a:ext cx="2259360" cy="8254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rt symbo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ot of 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9"/>
          <p:cNvSpPr/>
          <p:nvPr/>
        </p:nvSpPr>
        <p:spPr>
          <a:xfrm flipH="1" flipV="1">
            <a:off x="5943600" y="1676160"/>
            <a:ext cx="533520" cy="7596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762120" y="3200400"/>
            <a:ext cx="7924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611640" y="3809880"/>
            <a:ext cx="264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tokens: 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557676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4996080" y="4419720"/>
            <a:ext cx="126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4"/>
          <p:cNvSpPr/>
          <p:nvPr/>
        </p:nvSpPr>
        <p:spPr>
          <a:xfrm flipH="1">
            <a:off x="5285880" y="3886200"/>
            <a:ext cx="38124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5667480" y="388620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6"/>
          <p:cNvSpPr/>
          <p:nvPr/>
        </p:nvSpPr>
        <p:spPr>
          <a:xfrm flipH="1">
            <a:off x="4723920" y="4876920"/>
            <a:ext cx="3812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7"/>
          <p:cNvSpPr/>
          <p:nvPr/>
        </p:nvSpPr>
        <p:spPr>
          <a:xfrm>
            <a:off x="5105520" y="4876920"/>
            <a:ext cx="3045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8"/>
          <p:cNvSpPr/>
          <p:nvPr/>
        </p:nvSpPr>
        <p:spPr>
          <a:xfrm>
            <a:off x="4878360" y="5070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9"/>
          <p:cNvSpPr/>
          <p:nvPr/>
        </p:nvSpPr>
        <p:spPr>
          <a:xfrm flipV="1">
            <a:off x="3809880" y="5105160"/>
            <a:ext cx="914400" cy="15228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0"/>
          <p:cNvSpPr/>
          <p:nvPr/>
        </p:nvSpPr>
        <p:spPr>
          <a:xfrm>
            <a:off x="1302120" y="4917960"/>
            <a:ext cx="2709000" cy="119124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rom left to r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row” the 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ee dow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ion of a predictive parsing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onstruction of a predictive parsing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[,] = {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roductions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[A, a] = M[A, a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LLOW(A)  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[A, b] = M[A, b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ll empty entries of M be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 Fre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is a finite set of non-terminal symb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finite set of terminal symb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set of production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s the start symb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Recursive Descent Pars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cursive Descent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va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exp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r → term [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rm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rm → factor [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actor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 →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exp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| var |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ant | call( fun, expr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 →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6981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class Scanner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StreamTokenizer inpu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Type lastToke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enum Type { INVALID_CHAR, NO_TOKEN , VARIABLE, PLUS, FALSE, TRUE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// etc. for remaining tokens, th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Scanner (Reader r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 = new StreamTokenizer(r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resetSyntax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eolIsSignificant(fals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wordChars('a', 'z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wordChars('A', 'Z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ordinaryChar('+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ordinaryChar('*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ordinaryChar('=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ordinaryChar('(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put.ordinaryChar(')'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an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Type nextToken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y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witch (input.nextToken()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se StreamTokenizer.TT_EOF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EOF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se Type.TT_WOR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(input.sval.equals("false")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FALS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lse if (input.sval.equals("true")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TRU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l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VARIABL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se '+'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PL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rea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//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 catch (IOException ex) { return EOF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class Parser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Scanner scanne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Type toke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ublic Expr parse(Reader r) throws SyntaxException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canner = new Scanner(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xtToken(); </a:t>
            </a: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assigns to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atement stat = statemen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ct(scanner.EOF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st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74640" y="1628640"/>
            <a:ext cx="821376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stat ::= variable '=' expr ';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Statement stat() throws …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able var = variable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ct(scanner.ASSIG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r exp = expr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atement stat = new Statement(var, ex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ct(scanner.SEMICOLO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sta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Statement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var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 expr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(Variable v, Expression e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.var = v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.expr = e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face Expression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 eval(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ing print(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Variable implements Expression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ing print() { return name;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ariable(String name) {this.name = name);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Expr extends Expression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Term extends Expression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Factor exteds Expression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Term extends Expression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ion firs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res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 print(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 res = first.print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(rest != nul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 += “ + “ + rest.print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res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eval(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res = first.eval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(rest != nul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 += rest.eval()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res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640" y="492120"/>
            <a:ext cx="7569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46447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e tree from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= root labeled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parse tree” = all leaves labeled with tok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55640" y="1700280"/>
            <a:ext cx="7704000" cy="2845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e tree: tree labeled with grammar symbols,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ode is labe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ts children are labe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n there is a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expr ::= term ['+' term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Expr expr() throws …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erm exp = term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while (token == scanner.PLUS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xtToke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 = new Term(exp, term()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ex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// term ::= factor ['*' term 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 Term term() throws SyntaxException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exp = factor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// Rest of body: left as an exerci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factor ::= ( expr ) | v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Factor factor() throws SyntaxException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actor exp = nu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(token == scanner.LEFT_PAREN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xtToken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 = exp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ct(scanner.RIGHT_PAREN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 else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 = variable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ex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8134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variable ::= identif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Variable variable() throws SyntaxException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(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ken == scanner.ID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able exp = new Variable(input.getString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xtToken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ex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Expr constantExpression() throws SyntaxException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r exp = nu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Handle the various cases for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Lucida Sans Unicode"/>
                <a:ea typeface="Lucida Sans Unicode"/>
              </a:rPr>
              <a:t>// expressions: left as an exerci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turn ex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t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void expect(Type t) throws SyntaxException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(token != 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row SyntaxException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xtToke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ivate void nextToken(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oken = scanner.nextToke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a RD parser for J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6"/>
          <p:cNvGraphicFramePr/>
          <p:nvPr/>
        </p:nvGraphicFramePr>
        <p:xfrm>
          <a:off x="1666800" y="2744640"/>
          <a:ext cx="580860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2744640"/>
                    <a:ext cx="58086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Object 8"/>
          <p:cNvGraphicFramePr/>
          <p:nvPr/>
        </p:nvGraphicFramePr>
        <p:xfrm>
          <a:off x="617400" y="2936880"/>
          <a:ext cx="799164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36880"/>
                    <a:ext cx="799164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Object 5"/>
          <p:cNvGraphicFramePr/>
          <p:nvPr/>
        </p:nvGraphicFramePr>
        <p:xfrm>
          <a:off x="452520" y="2874960"/>
          <a:ext cx="82389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874960"/>
                    <a:ext cx="8238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name": 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first": "John"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last":  "Doe"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age":    23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"children": ["Paul", "Mary"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4640" y="407880"/>
            <a:ext cx="8074080" cy="7059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e trees and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nti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ree = labels on leaves (in left-to-right ord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ier of tree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ntential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7"/>
          <p:cNvGrpSpPr/>
          <p:nvPr/>
        </p:nvGrpSpPr>
        <p:grpSpPr>
          <a:xfrm>
            <a:off x="3048120" y="4162320"/>
            <a:ext cx="4010760" cy="2362320"/>
            <a:chOff x="3048120" y="4162320"/>
            <a:chExt cx="4010760" cy="2362320"/>
          </a:xfrm>
        </p:grpSpPr>
        <p:grpSp>
          <p:nvGrpSpPr>
            <p:cNvPr id="136" name="Group 4"/>
            <p:cNvGrpSpPr/>
            <p:nvPr/>
          </p:nvGrpSpPr>
          <p:grpSpPr>
            <a:xfrm>
              <a:off x="3048120" y="4695840"/>
              <a:ext cx="1295280" cy="1676520"/>
              <a:chOff x="3048120" y="4695840"/>
              <a:chExt cx="1295280" cy="167652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3048120" y="6143760"/>
                <a:ext cx="83808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6"/>
              <p:cNvSpPr/>
              <p:nvPr/>
            </p:nvSpPr>
            <p:spPr>
              <a:xfrm>
                <a:off x="3581280" y="469584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"/>
              <p:cNvSpPr/>
              <p:nvPr/>
            </p:nvSpPr>
            <p:spPr>
              <a:xfrm>
                <a:off x="3581280" y="5000760"/>
                <a:ext cx="304920" cy="1143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8"/>
            <p:cNvGrpSpPr/>
            <p:nvPr/>
          </p:nvGrpSpPr>
          <p:grpSpPr>
            <a:xfrm>
              <a:off x="3048120" y="4162320"/>
              <a:ext cx="1295280" cy="2362320"/>
              <a:chOff x="3048120" y="4162320"/>
              <a:chExt cx="1295280" cy="2362320"/>
            </a:xfrm>
          </p:grpSpPr>
          <p:sp>
            <p:nvSpPr>
              <p:cNvPr id="141" name="Rectangle 9"/>
              <p:cNvSpPr/>
              <p:nvPr/>
            </p:nvSpPr>
            <p:spPr>
              <a:xfrm>
                <a:off x="3048120" y="4543560"/>
                <a:ext cx="3045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"/>
              <p:cNvSpPr/>
              <p:nvPr/>
            </p:nvSpPr>
            <p:spPr>
              <a:xfrm>
                <a:off x="3048120" y="5305320"/>
                <a:ext cx="3045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1"/>
              <p:cNvSpPr/>
              <p:nvPr/>
            </p:nvSpPr>
            <p:spPr>
              <a:xfrm>
                <a:off x="3048120" y="5991120"/>
                <a:ext cx="3045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2"/>
              <p:cNvSpPr/>
              <p:nvPr/>
            </p:nvSpPr>
            <p:spPr>
              <a:xfrm>
                <a:off x="3200400" y="500688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3"/>
              <p:cNvSpPr/>
              <p:nvPr/>
            </p:nvSpPr>
            <p:spPr>
              <a:xfrm>
                <a:off x="3200400" y="57690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14"/>
              <p:cNvSpPr/>
              <p:nvPr/>
            </p:nvSpPr>
            <p:spPr>
              <a:xfrm>
                <a:off x="3581280" y="416232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15"/>
              <p:cNvSpPr/>
              <p:nvPr/>
            </p:nvSpPr>
            <p:spPr>
              <a:xfrm>
                <a:off x="3581280" y="461952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6"/>
              <p:cNvSpPr/>
              <p:nvPr/>
            </p:nvSpPr>
            <p:spPr>
              <a:xfrm>
                <a:off x="4038480" y="461952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 flipV="1">
                <a:off x="3359160" y="4536720"/>
                <a:ext cx="216000" cy="16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3892680" y="4549680"/>
                <a:ext cx="21564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20"/>
            <p:cNvSpPr/>
            <p:nvPr/>
          </p:nvSpPr>
          <p:spPr>
            <a:xfrm>
              <a:off x="5622120" y="5499000"/>
              <a:ext cx="14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267080" y="4924440"/>
              <a:ext cx="1371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H="1" flipV="1">
              <a:off x="3809880" y="5000760"/>
              <a:ext cx="18288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 flipH="1">
              <a:off x="3352680" y="5762520"/>
              <a:ext cx="22860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Box 23"/>
          <p:cNvSpPr/>
          <p:nvPr/>
        </p:nvSpPr>
        <p:spPr>
          <a:xfrm>
            <a:off x="755640" y="3284640"/>
            <a:ext cx="7920000" cy="8254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.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nte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frontier of a complete tree fro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Recursive Descent in pract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 parser are quite used in practice even for real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CC uses an hand-written RD parser for both C and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g uses RD for parsing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8 uses RD for JavaScri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aml and Haskell use LALR(1) parser gen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cal Syntax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61920" y="1197000"/>
            <a:ext cx="9097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.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mmar is one whose productions are all of the typ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eithe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9680" y="248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deterministic Finite State Automa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4"/>
          <p:cNvSpPr/>
          <p:nvPr/>
        </p:nvSpPr>
        <p:spPr>
          <a:xfrm>
            <a:off x="2268360" y="2852640"/>
            <a:ext cx="603360" cy="601920"/>
          </a:xfrm>
          <a:prstGeom prst="ellipse">
            <a:avLst/>
          </a:prstGeom>
          <a:solidFill>
            <a:srgbClr val="cc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6"/>
          <p:cNvSpPr/>
          <p:nvPr/>
        </p:nvSpPr>
        <p:spPr>
          <a:xfrm>
            <a:off x="4067280" y="2852640"/>
            <a:ext cx="603000" cy="601920"/>
          </a:xfrm>
          <a:prstGeom prst="ellipse">
            <a:avLst/>
          </a:prstGeom>
          <a:solidFill>
            <a:srgbClr val="cc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7"/>
          <p:cNvSpPr/>
          <p:nvPr/>
        </p:nvSpPr>
        <p:spPr>
          <a:xfrm>
            <a:off x="5796000" y="2852640"/>
            <a:ext cx="603360" cy="601920"/>
          </a:xfrm>
          <a:prstGeom prst="ellipse">
            <a:avLst/>
          </a:prstGeom>
          <a:solidFill>
            <a:srgbClr val="cc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7596360" y="2852640"/>
            <a:ext cx="603000" cy="601920"/>
          </a:xfrm>
          <a:prstGeom prst="ellipse">
            <a:avLst/>
          </a:prstGeom>
          <a:solidFill>
            <a:srgbClr val="cccc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rc 9"/>
          <p:cNvSpPr/>
          <p:nvPr/>
        </p:nvSpPr>
        <p:spPr>
          <a:xfrm flipV="1">
            <a:off x="2268360" y="2378880"/>
            <a:ext cx="574920" cy="522360"/>
          </a:xfrm>
          <a:custGeom>
            <a:avLst/>
            <a:gdLst>
              <a:gd name="textAreaLeft" fmla="*/ 0 w 574920"/>
              <a:gd name="textAreaRight" fmla="*/ 575280 w 574920"/>
              <a:gd name="textAreaTop" fmla="*/ -360 h 522360"/>
              <a:gd name="textAreaBottom" fmla="*/ 522360 h 522360"/>
            </a:gdLst>
            <a:ahLst/>
            <a:rect l="textAreaLeft" t="textAreaTop" r="textAreaRight" b="textAreaBottom"/>
            <a:pathLst>
              <a:path fill="none" w="43200" h="39196">
                <a:moveTo>
                  <a:pt x="35785" y="1306"/>
                </a:moveTo>
                <a:cubicBezTo>
                  <a:pt x="40495" y="5408"/>
                  <a:pt x="43200" y="11349"/>
                  <a:pt x="43200" y="17596"/>
                </a:cubicBezTo>
                <a:cubicBezTo>
                  <a:pt x="43200" y="29525"/>
                  <a:pt x="33529" y="39196"/>
                  <a:pt x="21600" y="39196"/>
                </a:cubicBezTo>
                <a:cubicBezTo>
                  <a:pt x="9670" y="39196"/>
                  <a:pt x="0" y="29525"/>
                  <a:pt x="0" y="17596"/>
                </a:cubicBezTo>
                <a:cubicBezTo>
                  <a:pt x="-1" y="10608"/>
                  <a:pt x="3380" y="4052"/>
                  <a:pt x="9072" y="-1"/>
                </a:cubicBezTo>
              </a:path>
              <a:path stroke="0" w="43200" h="39196">
                <a:moveTo>
                  <a:pt x="35785" y="1306"/>
                </a:moveTo>
                <a:cubicBezTo>
                  <a:pt x="40495" y="5408"/>
                  <a:pt x="43200" y="11349"/>
                  <a:pt x="43200" y="17596"/>
                </a:cubicBezTo>
                <a:cubicBezTo>
                  <a:pt x="43200" y="29525"/>
                  <a:pt x="33529" y="39196"/>
                  <a:pt x="21600" y="39196"/>
                </a:cubicBezTo>
                <a:cubicBezTo>
                  <a:pt x="9670" y="39196"/>
                  <a:pt x="0" y="29525"/>
                  <a:pt x="0" y="17596"/>
                </a:cubicBezTo>
                <a:cubicBezTo>
                  <a:pt x="-1" y="10608"/>
                  <a:pt x="3380" y="4052"/>
                  <a:pt x="9072" y="-1"/>
                </a:cubicBezTo>
                <a:lnTo>
                  <a:pt x="21600" y="17596"/>
                </a:lnTo>
                <a:lnTo>
                  <a:pt x="35785" y="1306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rc 11"/>
          <p:cNvSpPr/>
          <p:nvPr/>
        </p:nvSpPr>
        <p:spPr>
          <a:xfrm>
            <a:off x="2268360" y="3403440"/>
            <a:ext cx="574920" cy="535320"/>
          </a:xfrm>
          <a:custGeom>
            <a:avLst/>
            <a:gdLst>
              <a:gd name="textAreaLeft" fmla="*/ 0 w 574920"/>
              <a:gd name="textAreaRight" fmla="*/ 575280 w 5749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fill="none" w="43200" h="40192">
                <a:moveTo>
                  <a:pt x="34448" y="1229"/>
                </a:moveTo>
                <a:cubicBezTo>
                  <a:pt x="39953" y="5302"/>
                  <a:pt x="43200" y="11744"/>
                  <a:pt x="43200" y="18592"/>
                </a:cubicBezTo>
                <a:cubicBezTo>
                  <a:pt x="43200" y="30521"/>
                  <a:pt x="33529" y="40192"/>
                  <a:pt x="21600" y="40192"/>
                </a:cubicBezTo>
                <a:cubicBezTo>
                  <a:pt x="9670" y="40192"/>
                  <a:pt x="0" y="30521"/>
                  <a:pt x="0" y="18592"/>
                </a:cubicBezTo>
                <a:cubicBezTo>
                  <a:pt x="-1" y="10955"/>
                  <a:pt x="4032" y="3886"/>
                  <a:pt x="10604" y="-1"/>
                </a:cubicBezTo>
              </a:path>
              <a:path stroke="0" w="43200" h="40192">
                <a:moveTo>
                  <a:pt x="34448" y="1229"/>
                </a:moveTo>
                <a:cubicBezTo>
                  <a:pt x="39953" y="5302"/>
                  <a:pt x="43200" y="11744"/>
                  <a:pt x="43200" y="18592"/>
                </a:cubicBezTo>
                <a:cubicBezTo>
                  <a:pt x="43200" y="30521"/>
                  <a:pt x="33529" y="40192"/>
                  <a:pt x="21600" y="40192"/>
                </a:cubicBezTo>
                <a:cubicBezTo>
                  <a:pt x="9670" y="40192"/>
                  <a:pt x="0" y="30521"/>
                  <a:pt x="0" y="18592"/>
                </a:cubicBezTo>
                <a:cubicBezTo>
                  <a:pt x="-1" y="10955"/>
                  <a:pt x="4032" y="3886"/>
                  <a:pt x="10604" y="-1"/>
                </a:cubicBezTo>
                <a:lnTo>
                  <a:pt x="21600" y="18592"/>
                </a:lnTo>
                <a:lnTo>
                  <a:pt x="34448" y="1229"/>
                </a:lnTo>
                <a:close/>
              </a:path>
            </a:pathLst>
          </a:custGeom>
          <a:noFill/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2340000" y="198900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2340000" y="393372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3276720" y="278136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4932360" y="277668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6732720" y="2776680"/>
            <a:ext cx="43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AutoShape 20"/>
          <p:cNvCxnSpPr>
            <a:stCxn id="617" idx="6"/>
            <a:endCxn id="618" idx="2"/>
          </p:cNvCxnSpPr>
          <p:nvPr/>
        </p:nvCxnSpPr>
        <p:spPr>
          <a:xfrm>
            <a:off x="2885760" y="3153960"/>
            <a:ext cx="116748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29" name="AutoShape 21"/>
          <p:cNvCxnSpPr>
            <a:stCxn id="618" idx="6"/>
            <a:endCxn id="619" idx="2"/>
          </p:cNvCxnSpPr>
          <p:nvPr/>
        </p:nvCxnSpPr>
        <p:spPr>
          <a:xfrm>
            <a:off x="4684320" y="3153960"/>
            <a:ext cx="109764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30" name="AutoShape 22"/>
          <p:cNvCxnSpPr>
            <a:stCxn id="619" idx="6"/>
            <a:endCxn id="620" idx="2"/>
          </p:cNvCxnSpPr>
          <p:nvPr/>
        </p:nvCxnSpPr>
        <p:spPr>
          <a:xfrm>
            <a:off x="6413400" y="3153960"/>
            <a:ext cx="115488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31" name="Line 23"/>
          <p:cNvSpPr/>
          <p:nvPr/>
        </p:nvSpPr>
        <p:spPr>
          <a:xfrm>
            <a:off x="1116000" y="3141720"/>
            <a:ext cx="1152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80640" rIns="806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900000" y="2776680"/>
            <a:ext cx="100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em. The classes of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d by a regular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ed by a regular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zed by a NDFS automa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zed by a DFS automa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incid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stic Finite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2281320" y="2746440"/>
            <a:ext cx="0" cy="281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2281320" y="3257640"/>
            <a:ext cx="10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2281320" y="4535640"/>
            <a:ext cx="104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7"/>
          <p:cNvSpPr/>
          <p:nvPr/>
        </p:nvSpPr>
        <p:spPr>
          <a:xfrm flipV="1">
            <a:off x="3557520" y="2617560"/>
            <a:ext cx="0" cy="38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3557520" y="2617920"/>
            <a:ext cx="58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4138560" y="261792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"/>
          <p:cNvSpPr/>
          <p:nvPr/>
        </p:nvSpPr>
        <p:spPr>
          <a:xfrm flipH="1">
            <a:off x="3792240" y="3257640"/>
            <a:ext cx="34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1"/>
          <p:cNvSpPr/>
          <p:nvPr/>
        </p:nvSpPr>
        <p:spPr>
          <a:xfrm flipV="1">
            <a:off x="3557520" y="3897000"/>
            <a:ext cx="0" cy="38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4138560" y="3897360"/>
            <a:ext cx="0" cy="6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3"/>
          <p:cNvSpPr/>
          <p:nvPr/>
        </p:nvSpPr>
        <p:spPr>
          <a:xfrm flipV="1">
            <a:off x="2281320" y="1852200"/>
            <a:ext cx="0" cy="38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2281320" y="1852560"/>
            <a:ext cx="58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5"/>
          <p:cNvSpPr/>
          <p:nvPr/>
        </p:nvSpPr>
        <p:spPr>
          <a:xfrm>
            <a:off x="2862360" y="185256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6"/>
          <p:cNvSpPr/>
          <p:nvPr/>
        </p:nvSpPr>
        <p:spPr>
          <a:xfrm flipH="1">
            <a:off x="2513160" y="2492280"/>
            <a:ext cx="349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7"/>
          <p:cNvSpPr/>
          <p:nvPr/>
        </p:nvSpPr>
        <p:spPr>
          <a:xfrm>
            <a:off x="5186520" y="3749760"/>
            <a:ext cx="463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8"/>
          <p:cNvGrpSpPr/>
          <p:nvPr/>
        </p:nvGrpSpPr>
        <p:grpSpPr>
          <a:xfrm>
            <a:off x="2048040" y="2236680"/>
            <a:ext cx="5112720" cy="3835080"/>
            <a:chOff x="2048040" y="2236680"/>
            <a:chExt cx="5112720" cy="3835080"/>
          </a:xfrm>
        </p:grpSpPr>
        <p:sp>
          <p:nvSpPr>
            <p:cNvPr id="651" name="Line 19"/>
            <p:cNvSpPr/>
            <p:nvPr/>
          </p:nvSpPr>
          <p:spPr>
            <a:xfrm>
              <a:off x="3558600" y="3898440"/>
              <a:ext cx="58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20"/>
            <p:cNvGrpSpPr/>
            <p:nvPr/>
          </p:nvGrpSpPr>
          <p:grpSpPr>
            <a:xfrm>
              <a:off x="2048040" y="2236680"/>
              <a:ext cx="5112720" cy="3835080"/>
              <a:chOff x="2048040" y="2236680"/>
              <a:chExt cx="5112720" cy="3835080"/>
            </a:xfrm>
          </p:grpSpPr>
          <p:grpSp>
            <p:nvGrpSpPr>
              <p:cNvPr id="653" name="Group 21"/>
              <p:cNvGrpSpPr/>
              <p:nvPr/>
            </p:nvGrpSpPr>
            <p:grpSpPr>
              <a:xfrm>
                <a:off x="2048040" y="2236680"/>
                <a:ext cx="1743120" cy="3835080"/>
                <a:chOff x="2048040" y="2236680"/>
                <a:chExt cx="1743120" cy="3835080"/>
              </a:xfrm>
            </p:grpSpPr>
            <p:sp>
              <p:nvSpPr>
                <p:cNvPr id="654" name="Oval 22"/>
                <p:cNvSpPr/>
                <p:nvPr/>
              </p:nvSpPr>
              <p:spPr>
                <a:xfrm>
                  <a:off x="2048040" y="2236680"/>
                  <a:ext cx="464760" cy="5112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23"/>
                <p:cNvSpPr/>
                <p:nvPr/>
              </p:nvSpPr>
              <p:spPr>
                <a:xfrm>
                  <a:off x="2048040" y="5560560"/>
                  <a:ext cx="464760" cy="511200"/>
                </a:xfrm>
                <a:custGeom>
                  <a:avLst/>
                  <a:gdLst>
                    <a:gd name="textAreaLeft" fmla="*/ 67680 w 464760"/>
                    <a:gd name="textAreaRight" fmla="*/ 397080 w 464760"/>
                    <a:gd name="textAreaTop" fmla="*/ 74520 h 511200"/>
                    <a:gd name="textAreaBottom" fmla="*/ 436680 h 511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24"/>
                <p:cNvSpPr/>
                <p:nvPr/>
              </p:nvSpPr>
              <p:spPr>
                <a:xfrm>
                  <a:off x="3326400" y="4282200"/>
                  <a:ext cx="464760" cy="511200"/>
                </a:xfrm>
                <a:custGeom>
                  <a:avLst/>
                  <a:gdLst>
                    <a:gd name="textAreaLeft" fmla="*/ 67680 w 464760"/>
                    <a:gd name="textAreaRight" fmla="*/ 397080 w 464760"/>
                    <a:gd name="textAreaTop" fmla="*/ 74520 h 511200"/>
                    <a:gd name="textAreaBottom" fmla="*/ 436680 h 511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25"/>
                <p:cNvSpPr/>
                <p:nvPr/>
              </p:nvSpPr>
              <p:spPr>
                <a:xfrm>
                  <a:off x="3326400" y="3003480"/>
                  <a:ext cx="464760" cy="511200"/>
                </a:xfrm>
                <a:custGeom>
                  <a:avLst/>
                  <a:gdLst>
                    <a:gd name="textAreaLeft" fmla="*/ 67680 w 464760"/>
                    <a:gd name="textAreaRight" fmla="*/ 397080 w 464760"/>
                    <a:gd name="textAreaTop" fmla="*/ 74520 h 511200"/>
                    <a:gd name="textAreaBottom" fmla="*/ 436680 h 511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Line 26"/>
              <p:cNvSpPr/>
              <p:nvPr/>
            </p:nvSpPr>
            <p:spPr>
              <a:xfrm flipH="1">
                <a:off x="3791160" y="4537800"/>
                <a:ext cx="34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Group 27"/>
              <p:cNvGrpSpPr/>
              <p:nvPr/>
            </p:nvGrpSpPr>
            <p:grpSpPr>
              <a:xfrm>
                <a:off x="2280240" y="3495600"/>
                <a:ext cx="4880520" cy="511200"/>
                <a:chOff x="2280240" y="3495600"/>
                <a:chExt cx="4880520" cy="511200"/>
              </a:xfrm>
            </p:grpSpPr>
            <p:sp>
              <p:nvSpPr>
                <p:cNvPr id="660" name="AutoShape 28"/>
                <p:cNvSpPr/>
                <p:nvPr/>
              </p:nvSpPr>
              <p:spPr>
                <a:xfrm>
                  <a:off x="6696000" y="3495600"/>
                  <a:ext cx="464760" cy="511200"/>
                </a:xfrm>
                <a:custGeom>
                  <a:avLst/>
                  <a:gdLst>
                    <a:gd name="textAreaLeft" fmla="*/ 67680 w 464760"/>
                    <a:gd name="textAreaRight" fmla="*/ 397080 w 464760"/>
                    <a:gd name="textAreaTop" fmla="*/ 74520 h 511200"/>
                    <a:gd name="textAreaBottom" fmla="*/ 436680 h 511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Group 29"/>
                <p:cNvGrpSpPr/>
                <p:nvPr/>
              </p:nvGrpSpPr>
              <p:grpSpPr>
                <a:xfrm>
                  <a:off x="2280240" y="3495600"/>
                  <a:ext cx="4415760" cy="511200"/>
                  <a:chOff x="2280240" y="3495600"/>
                  <a:chExt cx="4415760" cy="511200"/>
                </a:xfrm>
              </p:grpSpPr>
              <p:sp>
                <p:nvSpPr>
                  <p:cNvPr id="662" name="Oval 30"/>
                  <p:cNvSpPr/>
                  <p:nvPr/>
                </p:nvSpPr>
                <p:spPr>
                  <a:xfrm>
                    <a:off x="5650200" y="3495600"/>
                    <a:ext cx="464760" cy="51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3" name="Group 31"/>
                  <p:cNvGrpSpPr/>
                  <p:nvPr/>
                </p:nvGrpSpPr>
                <p:grpSpPr>
                  <a:xfrm>
                    <a:off x="2280240" y="3495600"/>
                    <a:ext cx="2905200" cy="511200"/>
                    <a:chOff x="2280240" y="3495600"/>
                    <a:chExt cx="2905200" cy="511200"/>
                  </a:xfrm>
                </p:grpSpPr>
                <p:sp>
                  <p:nvSpPr>
                    <p:cNvPr id="664" name="Oval 32"/>
                    <p:cNvSpPr/>
                    <p:nvPr/>
                  </p:nvSpPr>
                  <p:spPr>
                    <a:xfrm>
                      <a:off x="4720680" y="3495600"/>
                      <a:ext cx="464760" cy="511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Line 33"/>
                    <p:cNvSpPr/>
                    <p:nvPr/>
                  </p:nvSpPr>
                  <p:spPr>
                    <a:xfrm>
                      <a:off x="2280240" y="3751200"/>
                      <a:ext cx="24404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6" name="Line 34"/>
                  <p:cNvSpPr/>
                  <p:nvPr/>
                </p:nvSpPr>
                <p:spPr>
                  <a:xfrm>
                    <a:off x="6114960" y="3751200"/>
                    <a:ext cx="58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67" name="Rectangle 35"/>
          <p:cNvSpPr/>
          <p:nvPr/>
        </p:nvSpPr>
        <p:spPr>
          <a:xfrm>
            <a:off x="3011760" y="1847520"/>
            <a:ext cx="167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ce, tab, new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4202280" y="264888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2597040" y="567072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6853320" y="4058640"/>
            <a:ext cx="97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W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2553480" y="33523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442960" y="497088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, +, -, /, (,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2523600" y="426024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256040" y="234756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3857760" y="335232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4430520" y="385632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5335200" y="385632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6249600" y="385632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4356000" y="5072040"/>
          <a:ext cx="4392720" cy="1327320"/>
        </p:xfrm>
        <a:graphic>
          <a:graphicData uri="http://schemas.openxmlformats.org/drawingml/2006/table">
            <a:tbl>
              <a:tblPr/>
              <a:tblGrid>
                <a:gridCol w="1443240"/>
                <a:gridCol w="2949480"/>
              </a:tblGrid>
              <a:tr h="2656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656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 cir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pt 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656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r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656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 na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656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er case lab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ition charac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:= sta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 input character buffered then read one, and add it to the accumulated tok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state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input_char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.Z, a..z : state := 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.9       : state := n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input_char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.Z, a..z : state := 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.9       : state := 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input_char o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.9: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050920" y="2276640"/>
          <a:ext cx="6408720" cy="2881080"/>
        </p:xfrm>
        <a:graphic>
          <a:graphicData uri="http://schemas.openxmlformats.org/drawingml/2006/table">
            <a:tbl>
              <a:tblPr/>
              <a:tblGrid>
                <a:gridCol w="1411560"/>
                <a:gridCol w="900000"/>
                <a:gridCol w="898560"/>
                <a:gridCol w="654120"/>
                <a:gridCol w="1272960"/>
                <a:gridCol w="1271520"/>
              </a:tblGrid>
              <a:tr h="63180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key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0788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Oval 9"/>
          <p:cNvSpPr/>
          <p:nvPr/>
        </p:nvSpPr>
        <p:spPr>
          <a:xfrm>
            <a:off x="1763640" y="1700280"/>
            <a:ext cx="6191280" cy="4824360"/>
          </a:xfrm>
          <a:prstGeom prst="ellipse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8"/>
          <p:cNvSpPr/>
          <p:nvPr/>
        </p:nvSpPr>
        <p:spPr>
          <a:xfrm>
            <a:off x="2409840" y="2276640"/>
            <a:ext cx="4897440" cy="4176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5"/>
          <p:cNvSpPr/>
          <p:nvPr/>
        </p:nvSpPr>
        <p:spPr>
          <a:xfrm>
            <a:off x="2698920" y="3139920"/>
            <a:ext cx="4392360" cy="3168720"/>
          </a:xfrm>
          <a:prstGeom prst="ellipse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L [NP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057480" y="4005360"/>
            <a:ext cx="3600360" cy="216036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3922560" y="4579920"/>
            <a:ext cx="2376720" cy="1513080"/>
          </a:xfrm>
          <a:prstGeom prst="ellipse">
            <a:avLst/>
          </a:prstGeom>
          <a:solidFill>
            <a:srgbClr val="ff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4"/>
          <p:cNvSpPr/>
          <p:nvPr/>
        </p:nvSpPr>
        <p:spPr>
          <a:xfrm>
            <a:off x="4065480" y="5165640"/>
            <a:ext cx="1658880" cy="688680"/>
          </a:xfrm>
          <a:prstGeom prst="ellipse">
            <a:avLst/>
          </a:prstGeom>
          <a:solidFill>
            <a:srgbClr val="cc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L [DFA=NF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4500720" y="1773360"/>
            <a:ext cx="72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1"/>
          <p:cNvSpPr/>
          <p:nvPr/>
        </p:nvSpPr>
        <p:spPr>
          <a:xfrm>
            <a:off x="4500720" y="2492280"/>
            <a:ext cx="792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13360" cy="712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17640" bIns="17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 |  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|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trees from start symbol (L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1332000" y="5991120"/>
            <a:ext cx="5297040" cy="533160"/>
            <a:chOff x="1332000" y="5991120"/>
            <a:chExt cx="5297040" cy="533160"/>
          </a:xfrm>
        </p:grpSpPr>
        <p:sp>
          <p:nvSpPr>
            <p:cNvPr id="159" name="Rectangle 39"/>
            <p:cNvSpPr/>
            <p:nvPr/>
          </p:nvSpPr>
          <p:spPr>
            <a:xfrm>
              <a:off x="1332000" y="5991120"/>
              <a:ext cx="42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40"/>
            <p:cNvSpPr/>
            <p:nvPr/>
          </p:nvSpPr>
          <p:spPr>
            <a:xfrm>
              <a:off x="2814840" y="5991120"/>
              <a:ext cx="42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41"/>
            <p:cNvSpPr/>
            <p:nvPr/>
          </p:nvSpPr>
          <p:spPr>
            <a:xfrm>
              <a:off x="6205680" y="5991120"/>
              <a:ext cx="423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;b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1523880" y="2922480"/>
            <a:ext cx="5257800" cy="2666880"/>
            <a:chOff x="1523880" y="2922480"/>
            <a:chExt cx="5257800" cy="2666880"/>
          </a:xfrm>
        </p:grpSpPr>
        <p:sp>
          <p:nvSpPr>
            <p:cNvPr id="163" name="Rectangle 4"/>
            <p:cNvSpPr/>
            <p:nvPr/>
          </p:nvSpPr>
          <p:spPr>
            <a:xfrm>
              <a:off x="1523880" y="3151080"/>
              <a:ext cx="30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1523880" y="39128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1523880" y="45986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7"/>
            <p:cNvSpPr/>
            <p:nvPr/>
          </p:nvSpPr>
          <p:spPr>
            <a:xfrm>
              <a:off x="1676160" y="36144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>
              <a:off x="1676160" y="43765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2438280" y="3379680"/>
              <a:ext cx="30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2438280" y="41414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1"/>
            <p:cNvSpPr/>
            <p:nvPr/>
          </p:nvSpPr>
          <p:spPr>
            <a:xfrm>
              <a:off x="2438280" y="48272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590560" y="3843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590560" y="46051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2971800" y="29984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5"/>
            <p:cNvSpPr/>
            <p:nvPr/>
          </p:nvSpPr>
          <p:spPr>
            <a:xfrm>
              <a:off x="2971800" y="34556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3429000" y="34556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 flipV="1">
              <a:off x="2749320" y="337284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3124080" y="33858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3282840" y="3385800"/>
              <a:ext cx="2160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4495680" y="3608280"/>
              <a:ext cx="30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1"/>
            <p:cNvSpPr/>
            <p:nvPr/>
          </p:nvSpPr>
          <p:spPr>
            <a:xfrm>
              <a:off x="4495680" y="43700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4495680" y="505584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3"/>
            <p:cNvSpPr/>
            <p:nvPr/>
          </p:nvSpPr>
          <p:spPr>
            <a:xfrm>
              <a:off x="4647960" y="4071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4647960" y="4833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5"/>
            <p:cNvSpPr/>
            <p:nvPr/>
          </p:nvSpPr>
          <p:spPr>
            <a:xfrm>
              <a:off x="5029200" y="32270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6"/>
            <p:cNvSpPr/>
            <p:nvPr/>
          </p:nvSpPr>
          <p:spPr>
            <a:xfrm>
              <a:off x="5029200" y="36842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486400" y="36842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8"/>
            <p:cNvSpPr/>
            <p:nvPr/>
          </p:nvSpPr>
          <p:spPr>
            <a:xfrm>
              <a:off x="5486400" y="4370040"/>
              <a:ext cx="30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>
              <a:off x="5638680" y="4147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0"/>
            <p:cNvSpPr/>
            <p:nvPr/>
          </p:nvSpPr>
          <p:spPr>
            <a:xfrm flipV="1">
              <a:off x="4806720" y="360144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5181480" y="36144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5340240" y="3614400"/>
              <a:ext cx="2160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3"/>
            <p:cNvSpPr/>
            <p:nvPr/>
          </p:nvSpPr>
          <p:spPr>
            <a:xfrm>
              <a:off x="5715000" y="2922480"/>
              <a:ext cx="30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4"/>
            <p:cNvSpPr/>
            <p:nvPr/>
          </p:nvSpPr>
          <p:spPr>
            <a:xfrm>
              <a:off x="6476760" y="3379680"/>
              <a:ext cx="30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5"/>
            <p:cNvSpPr/>
            <p:nvPr/>
          </p:nvSpPr>
          <p:spPr>
            <a:xfrm>
              <a:off x="6476760" y="4065480"/>
              <a:ext cx="30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6"/>
            <p:cNvSpPr/>
            <p:nvPr/>
          </p:nvSpPr>
          <p:spPr>
            <a:xfrm>
              <a:off x="6629400" y="3843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>
              <a:off x="6026040" y="3309840"/>
              <a:ext cx="4446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5340240" y="3296520"/>
              <a:ext cx="29196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42"/>
            <p:cNvSpPr/>
            <p:nvPr/>
          </p:nvSpPr>
          <p:spPr>
            <a:xfrm>
              <a:off x="5867280" y="3531960"/>
              <a:ext cx="30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873760" y="3385800"/>
              <a:ext cx="633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46"/>
          <p:cNvSpPr/>
          <p:nvPr/>
        </p:nvSpPr>
        <p:spPr>
          <a:xfrm>
            <a:off x="971640" y="5575320"/>
            <a:ext cx="71294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tial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regular expressions, as provided by Perl or other languages, sufficient for parsing nested structures, e.g. XML fil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E + 0) -&gt;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E * 1) -&gt;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 * 0) -&gt;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a + ( b * 0)) =&gt;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pattern/replacement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( \(.*\) \* 0)/0/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((((((((((( ))))))))))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-&gt; (S) | 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-&gt; (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&gt; S) |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-&gt; | (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ul&gt; &lt;li&gt; &lt;dt&gt; &lt;ul&gt; ….. &lt;/li&gt;&lt;/ul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1:50:24Z</dcterms:created>
  <dc:creator>Sam Kamin</dc:creator>
  <dc:description/>
  <cp:keywords/>
  <dc:language>en-US</dc:language>
  <cp:lastModifiedBy>Giuseppe Attardi</cp:lastModifiedBy>
  <cp:lastPrinted>2000-09-27T17:36:26Z</cp:lastPrinted>
  <dcterms:modified xsi:type="dcterms:W3CDTF">2016-03-07T17:21:27Z</dcterms:modified>
  <cp:revision>408</cp:revision>
  <dc:subject/>
  <dc:title>Abstract data typ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ickunas@cs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s321\lecture\Spring2000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